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337-8FF8-4390-9AC2-1F4887CB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53B-FCC6-44E4-B7B0-70F2699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A41-95C0-4849-9C4C-9413775D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5BA-B3EF-42DB-BFCB-49B38895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110-6BBC-40E2-BD69-1D48B424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BF5-76F0-4D04-A86C-B919EF18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B48-7567-40C6-BA9D-47838021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A98-6B6A-4CF0-ABAF-DA10A507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82A-85A1-49D8-97E0-85CC4C88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C12-9D73-4C90-B3E8-474C8DF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9CF-0FF0-4200-9D8A-0575219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70E-94CD-4D76-8609-06F9E389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5741-A158-4A71-920F-6E3A2089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75960" y="476280"/>
            <a:ext cx="93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euvent-elles jouer à des 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sali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3320" y="533520"/>
            <a:ext cx="702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eulement si elles portent de vi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vê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8360" y="247680"/>
            <a:ext cx="91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ont-elles des corvées à f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97960" y="95400"/>
            <a:ext cx="76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doivent passer le balai et r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leurs aff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655560" y="5867280"/>
            <a:ext cx="105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doivent-elles obéir aux règ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2560" y="1085760"/>
            <a:ext cx="63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C’est une chose qu’elles doi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apprendre, certain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49080" y="304920"/>
            <a:ext cx="62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mange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urs croûtes de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les donnent plutôt au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canards du c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89200" y="0"/>
            <a:ext cx="69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Est-ce qu’il y a un légume que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princesses préfè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6280" y="594360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aiment surtout des légume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1800" y="5257800"/>
            <a:ext cx="840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Maman, les princesses portent-elles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bottes de randoné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18720" y="380880"/>
            <a:ext cx="108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nt-elles les boissons pétill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préfèrent une limonade bien rafraîchiss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4280" y="954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Quand les princesses rient, f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ssez de br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95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même si elles sont bien élevées et po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1960" y="380880"/>
            <a:ext cx="849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nflent-elles quand 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dorment, la n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5240" y="17136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i elles ont compté assez de moutons, bien sûr que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98640" y="45147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-Maman, les princesses sont-elles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peu comme m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461160" y="5715000"/>
            <a:ext cx="9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Pour le savoir, tu dois regarder dans le miroi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quand elles vont se prom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362320"/>
            <a:ext cx="71629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762120" y="2437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Si ton coeur est heureux, c’est qu’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princesse l’hab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280" y="5791320"/>
            <a:ext cx="90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ulent-elles à vélo, parfo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7000" y="763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Tu parles! Elles adorent ç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10280" y="533520"/>
            <a:ext cx="86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euvent-elles grimper 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rbres de temps en te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472428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GoudyHandtooled BT"/>
              </a:rPr>
              <a:t>N,est-ce pas le meilleur moyen d’être dans le 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840600" y="5715000"/>
            <a:ext cx="10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nt-elles marcher sous la plu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46520" y="6095880"/>
            <a:ext cx="73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et sauter dans les flaques auss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0:14Z</dcterms:created>
  <dc:creator>CVJH-LAB</dc:creator>
  <dc:description/>
  <dc:language>en-US</dc:language>
  <cp:lastModifiedBy>nield411</cp:lastModifiedBy>
  <dcterms:modified xsi:type="dcterms:W3CDTF">2008-02-26T21:35:09Z</dcterms:modified>
  <cp:revision>12</cp:revision>
  <dc:subject/>
  <dc:title>Slide 1</dc:title>
</cp:coreProperties>
</file>